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A7C7-FB8E-4D0C-B4D8-B233ED9E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silly to define risk factors for a condition that affects over half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nflicting studies, or a threshol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s further confused by lack of consistent reporting of serum vitamin D levels.  This pooled data is the source of opinions that levels of &gt; 30 or even 40 are desir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thought to affect muscle strength.  There are studies that point to improvements in performance speed, proximal muscl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ed into quintiles of daily intake, better corellation was ob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newest, glamorous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roans from that first sub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last night, I was having trouble coming up with a title - here are some of the runners up - can anyone guess why these ide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core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 - 400 IU per 3.5 ou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k/cereal - 100 IU per ser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be having this talk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rmatologists are not happy about th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really be having this talk outsi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problem - we’re on the beach, but all covered up, probably even wearing sunscreen….what a sh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OH D is what w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 I know, it makes me rock out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may enhance innate immunity while repressing adaptive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 – diabetes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e tissues – fighting infection, autoimmune disease,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 D levels are inversely related to PTH levels until they reach 30 – 40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:  nude beaches photo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132-9DE4-4A21-80B3-4591DF81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BC1-07B9-4ECD-8619-7D2908DF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E63-733D-4FDC-B5DD-8F4A376D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A93-0A44-42F1-867F-4C42FE22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9A0-1135-4682-B6C4-5A32B002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CD5-1FC7-4410-B0A5-8AEA47D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BD1-1CB3-4658-90F8-26C867C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F7C-8122-46C0-9C4C-F9A35C1C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12B-7D52-4212-9DDC-08AA6A03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168-B1A3-4EF6-9C64-D505A59E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5FC-3569-4B86-A0C3-9437C4B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EDE-101F-4F5F-BC58-018DE89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C733-7DBA-4C6F-BFD2-EB4E30EDE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:  Bones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ie Fre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hanisms of De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dietary in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sun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hepatic catabolism (liver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endogenous synthesis (renal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organ resistance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 for deficien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la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er comp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r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sity (vit D accumulates in fat s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bsorption (Celiac dz, IBD, bariatric surg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 interactions (rifampin, dilantin, carbamazep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vitamin D, only 10-15% of dietary Ca is absorbed; only 60% of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deficiency causes hyperparathyroidism, leading to demineralization of bone, leading to rickets and osteomala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risk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pective study of 3300 French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IU vitamin D daily, 1200 mg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hip fracture by 43% and nonvertebral fracture by 32% however WHI study of women on 400 IU reported no benefit for hip fracture and increased kidney st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0 women and 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IU, 500 mg calcium led to 58% reduction in nonvertebral fra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: 36,000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IU vitamin D, 1000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enefit for hip fracture, but more kidney 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7 trial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benefit with 400IU for either hip or nonvertebral fra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using 700-800IU demonstrated fracture reduction of 23% for nonvertebral fractures and 26% for hip fra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threshold serum le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 demonstrated little effect on fracture risk for levels &lt; 26 n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prevention trials gave 700-800 IU and raised baseline vitamin D levels from &lt; 17 to 40 ng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s in the Elde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5 RCTs demonstrated 22% reduction in falls with 800 IU as the most effective dose.  400 IU was not eff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t study of 124 nursing home residents (average age 89):  800 IU group had 72% reduction in falls vs. placebo.  No dose-response curve was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shold level for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skeletal Hypothe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can improve chronic p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helps fight infe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autoimmune dise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can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tamin D improves blood pressur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your attitude, or change your la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s increase risk for Hodgkin’s lymphoma, colon, pancreatic, breast, and ovarian can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eomalacia patients complain of dull ache in their bones which can be tender to the to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nikoff and Quigley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neapolis, Minnesota (45°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 primary care patients with nonspecific musculoskeletal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igrants and native-born, very multiracial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elderly, non-home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er-up Tit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.  Sun and sardin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.  Bones, groans, and Crohn’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.  Change your attitude, 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 your latitu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3% of patient had vitamin D level &lt; 20 (Mean of 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nger patients fared wor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lt; 30 - mean level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gt; 50 - mean level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s lower in African-Americans - mean of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 “Patients with non-specific skeleto-muscular pain should have vitamin D levels check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 No evidence that raising vitamin D levels improves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functio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as immuno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enhance innate immunity while controlling the excesses of adaptive immunity (autoimmune dise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tro:  25-OH D levels control generation of cathelicidin by monocytes and macrophages in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cobacterium T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has a multifold increase in prevalence with increasing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risk also changes with migration of populations - suggests environmental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clero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ive, case-control study of US military personnel - bank of stored serum samples prior to diagno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casians - inverse correlation with vitamin D levels:  highest quintile has 51% lower inc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African-Americans and Hipanics, the association was not signific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ype 1 D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nish birth-cohort study:  infants who received vitamin D supplementation in year 1 of life had 80% reduced risk of type 1 D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colon, breast, and prostate cells have vitamin D recep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metabolites may inhibit angiogenesis, promote differentiation, inhibit cell prolif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standing observation of higher breast, colon and prostate cancer risks at higher la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studies of colon cancer or adenomatous polyps - 20 found a statistically significant benefit of vitamin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rospective stud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tudies showed 2x risk of colon cancer for level &lt;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howed 2x risk for level &lt; 2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ourth showed favorable, but non-significant tr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st canc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studies of breast cancer, 9 reported a favorable associ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ANES women with high intake or sun exposure (self-reported) had reduced lifetim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ate cancer:  13/26 studies showed significant favorable assoc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udy of 19,000 men in Finland found 70% higher incidence in men with levels &lt;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ly fish (salmon, mackerel, sardines) and cod liver 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ified foods (milk, cereals, margar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basic physiology and epidemiology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hanging definitions of deficiency, and of optimal vitamin D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extra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trategy for assessment of vitamin D levels, treatment of deficiency, and sup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rgo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hole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A recommends 400 IU daily - all 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commendations from I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IU daily for children/adults &lt;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IU daily for age 51 -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IU daily for age &gt;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s of 1000 IU needed for level &g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ficiency (&lt;20), (or insufficieny &lt; 3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,000 IU weekly for 8 weeks, then re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with 1,000 IU daily mainte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udies suggest cholecalciferol increases levels more efficiently than ergocalcif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atients with chronic renal disease or severe liver disease, calcitriol is preferable.  However, 25-OH D levels will not reflect clinical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uch of a good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vitaminosis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cal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calcification of bones, soft tissues, heart and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o evidence of excess at doses below 10,000 IU da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unlight is enoug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of arms, shoulders and back for 15 minutes in summer, 20 minutes in spring or fall, between 11 am and 2 pm, 2 - 3 times per wee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dark skin, you need up to twice a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D appears to have effects far beyond the calcium economy - not just for bones anymor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optimal vitamin D status will be difficult in chronic disease and malignancy - long latency and multifactorial causation make them difficult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current definition of deficiency is &lt; 20, study outcomes for fractures, falls, and cancer prevention suggest optimal level &gt;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commendations for supplementation may be insufficient.  Consider 800 - 1000 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MS decreases by 41% for every increase of 20 ng/ml above 2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nish study of &gt;10,000 children who received 2000IU from birth to 1 – had 80% less risk of DM 1 over 31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a bottle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pi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pill:  statin, ace, fish oil, green tea, dark chocolate, almonds, vitamin 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ssues with vitamin D receptors:  brain, prostate, breast, colon, immun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5 OH-D controls &gt;200 genes, some of which regulate apoptosis, proliferation, angiogen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modulator – can increase synthesis of cathelicidin – fights M.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OH levels &lt; 20 associated with 30-50% increased risk of incident colon, prostate, breast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 participants with level &lt; 12 had 253% increased colorectal cancer risk over 8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vitamin D intake correllated with 50% less risk of breast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i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y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8816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from skin and diet metabolized in liver to 25-hydroxyvitamin D (25-OH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ney metabolizes 25-OH D to its active form:  1,25-OH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production is tightly regulated by PTH, calcium, and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tamin D levels raise PTH which leads to osteoclast act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e’ll miss you, Antho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905520" y="-5178600"/>
            <a:ext cx="4871880" cy="365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Classical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thyroid glands, pancreas, immune tissues, keratinoc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0 identified genes have vitamin D response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, differentiation, apop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and acquired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less than 20 ng/ml of 25-OH-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dvocate for a “physiologic” definition of normal as &gt; 3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H levels level off at 30 or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testinal transport when raising level from 20 to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illion people worldwide have deficiency or insufficiency, defined as &lt; 2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% of white preadolescent girls in 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% of 18-20 year-olds at the end of a Boston wi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% of 15-49 yo Black girls and women at the end of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-54% of patients over 65 years of 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0% of postmenopausal women on treatment for osteopor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% of US/European community-dwelling eld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% of healthy medical students, doctors and residents in a Boston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um levels of &lt; 30 ng/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 of Europeans and half the world’s population are de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13:29Z</dcterms:created>
  <dc:creator>HCMARTINEZ</dc:creator>
  <dc:description/>
  <dc:language>en-US</dc:language>
  <cp:lastModifiedBy>HCMARTINEZ</cp:lastModifiedBy>
  <dcterms:modified xsi:type="dcterms:W3CDTF">2009-06-12T16:25:05Z</dcterms:modified>
  <cp:revision>15</cp:revision>
  <dc:subject/>
  <dc:title>Prevalence</dc:title>
</cp:coreProperties>
</file>